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3BB-6B51-4752-A70D-532489AD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D4E-536B-45FB-809C-4FADBF80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CF2-5074-48F6-804D-AA4BDCF0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B16-C43A-4F74-B434-2745D2D0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49E6D-849A-4471-B8BD-164A882B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EE652-C249-4B3C-81EC-2DB69674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AD0FC-5DA9-4051-90BE-70E825C1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2E1CD-AB58-4439-9290-2E67A61C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CED55-515C-419B-9437-A153BAED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B2979-277E-4097-816B-A4776199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C7F45-0EF2-4205-AA49-E990171A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820-9267-4133-98DF-66E1B522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D3C91-38EC-43B6-9151-8E9B6AB9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F9DC9-574D-49A6-BB72-E8531FD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67738-D408-4FC9-82CB-85DC88EE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60A8F4-8492-44D3-A396-6045A9B1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9CBC7-FACF-43BF-892F-2F132ECB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579-DFCD-40AA-859E-A8F83F0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A475-990C-44D4-ABA1-7CC405DD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A0A-EBFE-4F21-9BC0-8D2C1198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57A-D0E5-4B0B-91C3-97BFD815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300-394C-4394-AFFF-E4A6BBF0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C685-44FC-43C4-827E-8DF57992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C8C-7B5A-444A-8E8F-CFD2ADEB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B10B-0A78-4DDD-AF3F-E0F4CA085B1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2934-D514-4292-BF6B-776009BCD8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njour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onjour. Ça va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onjour. Ça va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Ç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va bi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Ç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 v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erci,  Merci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u revoir, Au revoi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lut! Salu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6:52:31Z</dcterms:created>
  <dc:creator>Santa</dc:creator>
  <dc:description/>
  <dc:language>en-US</dc:language>
  <cp:lastModifiedBy>Barbara Harper</cp:lastModifiedBy>
  <dcterms:modified xsi:type="dcterms:W3CDTF">2006-03-24T21:32:38Z</dcterms:modified>
  <cp:revision>1</cp:revision>
  <dc:subject/>
  <dc:title>Bonjour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28729526</vt:r8>
  </property>
  <property fmtid="{D5CDD505-2E9C-101B-9397-08002B2CF9AE}" pid="3" name="_AuthorEmail">
    <vt:lpwstr>petersc@wardenpark.co.uk</vt:lpwstr>
  </property>
  <property fmtid="{D5CDD505-2E9C-101B-9397-08002B2CF9AE}" pid="4" name="_AuthorEmailDisplayName">
    <vt:lpwstr>Peters, Cathy</vt:lpwstr>
  </property>
  <property fmtid="{D5CDD505-2E9C-101B-9397-08002B2CF9AE}" pid="5" name="_EmailSubject">
    <vt:lpwstr>KS2</vt:lpwstr>
  </property>
  <property fmtid="{D5CDD505-2E9C-101B-9397-08002B2CF9AE}" pid="6" name="_ReviewingToolsShownOnce">
    <vt:lpwstr/>
  </property>
</Properties>
</file>